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833-7A28-452E-BCD5-3A0CD53E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3EB-CCF5-46F0-A8F8-528F801B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803-5339-4EDA-B4A3-BE42681E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3A1-B4FE-48D2-80E1-467A001F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180-5C99-4A02-9137-3B7A29D3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747-C007-4DF5-8FE2-3B7ACA57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5DE-FD6E-4912-A73C-DB66BFF1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D21-BBA5-46D3-BCC9-486578D8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B5D-AAFD-4FC6-AD4F-593FBDB6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81B-F908-4160-A00E-9B702596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2FA-43CA-41CA-BD04-25ED5594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2E2-04AD-4A2C-9DB8-3381B3BC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4C43-E3C6-4D5E-8DA0-CE6C78562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-masslg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6858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04920"/>
            <a:ext cx="2819160" cy="67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ذا شعارُ فداء العالم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ه الفرحُ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ه الحق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ه سلامُ القل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1033993tZfahx_ph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0"/>
            <a:ext cx="3429000" cy="79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هذا جسدُكَ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هذا دمُكَ الطاهرُ فاغس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اغسل يا ربِّ خطايا العال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لتحيى بروحِكَ أنفُسُنا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2-11-19T10:45:14Z</dcterms:modified>
  <cp:revision>2</cp:revision>
  <dc:subject/>
  <dc:title>PowerPoint Presentation</dc:title>
</cp:coreProperties>
</file>